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D74-676F-4D94-8099-7C258F65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524-8AD8-4901-8B9B-0D53256F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A56-C9CC-4804-9599-87571B1C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450-B95C-47AF-BF2C-B1B96C1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221-70FC-4422-B93E-868D8EA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5EA-470B-4B74-99A9-19E31CB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2B1-86E5-4356-9EDB-4042683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083-3E06-4DA0-8B42-7EA0CDC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FC9-D9F1-4C0D-B6D2-9A15D9A4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B50-58DF-499B-AA19-56F5DC4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B72-8238-4C9F-8C09-37ED3B1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FBE-C092-458C-A8CB-52B8CE4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DC1C-1B83-4744-96FA-2D9BC52A6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www.saskschools.ca/curr_content/mathcatch/mainpages/assess_tools/exit_cards1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it Strateg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19920" y="4267080"/>
            <a:ext cx="266688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267080"/>
            <a:ext cx="27432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67080"/>
            <a:ext cx="20574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868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umb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14360"/>
            <a:ext cx="8381880" cy="451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students respond with the position of their thumb to get an assessment of what their current understanding of a topic being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I am now in my understanding of 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p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deways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know a lot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I know so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I know very 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07240" y="0"/>
            <a:ext cx="1357200" cy="127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943600"/>
            <a:ext cx="8534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t of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 the number of fingers on a scale, with 1 being lowest and 5 the high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k, How well do you feel you know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know it so well I could explain it to an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an do it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need some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ould use more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I am only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08760" y="28584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40560" y="4267080"/>
            <a:ext cx="1346040" cy="8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440" y="6172200"/>
            <a:ext cx="8331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with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plying 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1240" y="1965240"/>
            <a:ext cx="42832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have been learning abou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he Greenhouse Effec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Explain or depict your understanding of this important environment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questions do you have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1965240"/>
            <a:ext cx="428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have begun a study of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thor’s craf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 and identify three examples of figurative language used in the novel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orning Gir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Michael Dor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1905120"/>
            <a:ext cx="4108680" cy="41907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3400" y="2133720"/>
            <a:ext cx="3725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posi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may wish to g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xample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part of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27760" y="2203560"/>
          <a:ext cx="363996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03560"/>
                    <a:ext cx="363996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1682640"/>
            <a:ext cx="4718160" cy="478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46483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imi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etaph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Giv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 of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t of your expla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2209680"/>
          <a:ext cx="364032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209680"/>
                    <a:ext cx="364032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IT CAR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168720" cy="356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29200" y="1600200"/>
            <a:ext cx="467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used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strategies 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minut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-P-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learning strategy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ies seemed to work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609480"/>
            <a:ext cx="563904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-2-1 Summar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280" y="1905120"/>
            <a:ext cx="7783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reading over my rough draft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vis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make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sourc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use to help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ing 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Comic Sans MS"/>
              </a:rPr>
              <a:t>really lik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bout my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5715000"/>
            <a:ext cx="1403640" cy="9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90000"/>
          </a:blip>
          <a:stretch/>
        </p:blipFill>
        <p:spPr>
          <a:xfrm>
            <a:off x="711360" y="5372280"/>
            <a:ext cx="914400" cy="514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7621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quaring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314000"/>
            <a:ext cx="8381880" cy="4343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 Group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card in each corner of the room with one of the following words or phrases that are effective ways to group according to learner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rely ever     Sometimes       Often        I have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t road         Paved road      Highway     Yellow brick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the students to go to the corner of the room that matches their place in the learning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nts go to the corner that most closely matches their own learning status and discuss what they know about the topic and why they chose to go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5429160"/>
            <a:ext cx="763560" cy="40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53341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19320" y="457200"/>
            <a:ext cx="1320840" cy="83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781680" y="449280"/>
            <a:ext cx="124488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162920" y="990720"/>
            <a:ext cx="1168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299280" y="857160"/>
            <a:ext cx="119376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11360" y="228600"/>
            <a:ext cx="111744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02320" y="52578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943600"/>
            <a:ext cx="77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46640" cy="92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es/No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a 4x6 index card the student writ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one side an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question is asked the students hold up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the students if they know the following vocabulary words and what they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out a word. If a student is holding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ay be called on to give th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ind them that if they don’t know the words it is OK because they will be lear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do the same thing with conceptual id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04920"/>
            <a:ext cx="144792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43040"/>
            <a:ext cx="93960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229440"/>
            <a:ext cx="8432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16720" y="2438280"/>
            <a:ext cx="17272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01:33Z</dcterms:created>
  <dc:creator>Sara Fridley</dc:creator>
  <dc:description/>
  <dc:language>en-US</dc:language>
  <cp:lastModifiedBy>Rosanne Markham</cp:lastModifiedBy>
  <dcterms:modified xsi:type="dcterms:W3CDTF">2010-05-20T03:45:30Z</dcterms:modified>
  <cp:revision>6</cp:revision>
  <dc:subject/>
  <dc:title>Exit Cards</dc:title>
</cp:coreProperties>
</file>