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move the slide</a:t>
            </a:r>
            <a:endParaRPr b="0" lang="en-US" sz="4400" spc="-1" strike="noStrike">
              <a:solidFill>
                <a:srgbClr val="9966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2C1F-6EF5-4E6A-85DF-566A46D16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4AE4-B380-4A04-AECC-25F6DDA83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CEF6-7061-4A3B-B04A-FBA649FE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lavender paper in fol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25D4-B129-492C-B8E7-49543C10B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C4FE-B396-4C65-80AA-747817327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metaphor in all wri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1157-F5A5-49FC-8D5C-C2871F121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9BD8-B737-4ABB-9FE5-4488BA06C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ources on http://granitereading.org --Blog/email, graphic organizers, Cornell notes,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21FE-4231-4A1F-854B-2A67B7F35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this a Language Arts responsibility? Why would a secondary content teacher want to embed more writing in their curriculum? Read Bob Tierney’s examle on pg 33 of Write for Insight (green tab). Let’s see if writing is included in any content areas other than LA. Packet: ILO’s and state core copies. Also sample content writing ideas (lavender) In your folders are copies of standards from various content areas, Intended Learning Outcomes (ILO’s) from the Utah State Core, and the new Common Core standards for English Language Arts, Science and Social Stud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279B-10E7-4D35-A7D6-3D73CDD02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text walk with the teachers. Briefly discuss the role of 6-traits. Have elementary teachers get copies of the rubrics. Explain the stamp and possible ways it can be us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885A-C5C4-4FEB-998C-37EAC593E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F54D-EAC1-46BC-A856-ECCCE8910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8CD1-7752-4B35-A5AF-50DFDA4FC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8B1E-E15E-4A89-A6B4-61A30069E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hare our good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0EFC-2C3C-4507-A106-76A889BCE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A0AF-6BB9-4025-82E6-85B1F05A6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omeone model what they will be doing. Have four tables share their biggest strengths/concerns/writing tas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8028-B15B-4826-AA92-70A65691E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3992-C515-4E2E-8E44-21CC5CBEE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ola Curriculum; National study-- see Strong pg 4-5 “only 3% of class time in observed classes spend on writing of at least a paragraph. 32% of teachers said they never assigned such writing. “writing” activities included multiple choice and fill-in-the-blank exercises, math calculations, and short-answer responses requiring only a sentence  or two. In other words, tasks of “mechanically slotting-in the missing information. Homework assignments of paragraph-length writing or more occurred only 3 percent of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BDFF-E3F5-466A-A2F4-840A7377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8715-9CAA-4D8E-B6C7-1AB7CB4A9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3280-9FFA-4F0F-9B25-8B75F2586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trong’s ‘Hidden Curriculum” This is the message we inadvertently give when we routinely assign low-level worksheets, objective exams are the assessments of choice, and when misbehaving students are given reports as punish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E608F-61E7-415D-B101-AEEB4D0D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994A-C5E9-4154-9430-4D2A4DB19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1C92-8990-4BCC-A61C-8FA80F8FE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9D06F-3F19-42DB-BCAC-2367B97BF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F8469-797D-4066-A71A-F6AC25726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C0F83-FED7-45DD-99E2-7F6A9CB0F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F8F85-56CD-4351-8163-980C5FE9B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5B6EC-6B05-4FF5-8603-A91B352F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66618-5F2C-465E-AF33-622D9737F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25CD5-0C94-441E-BFE9-F9F2CF9CC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26F95-B888-4550-B913-2EB5A751F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514A-7336-42C0-94FC-FB64B71F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DB1E8-18E6-48DE-814E-A5F70982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1F32A-B158-408B-BA01-72C8E571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0404D-8CC6-4357-A66B-9C036722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64FDA-DDCF-4667-B002-158AF5BCB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6D110-4D71-4DBB-8AFB-F7E4B17CC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F31AD-F1F8-44E7-B3D3-BE9CED0AD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3297-3440-4736-B1B3-BB1D14CA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FAAC-1440-4A64-8AE4-49155830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8106-1EBA-4E38-BC78-BD12828E0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7661-1487-4C5E-AF87-4DDF1904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841D-EB29-486A-BD49-9E2EE7D1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F663-58AD-4F24-B686-60468D5F8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65BD-0CD8-43AB-AB40-F449420535F3}"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42" name="PlaceHolder 2"/>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167E-26BB-4D35-B276-6F55846A427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riting Across the Curriculum</a:t>
            </a:r>
            <a:endParaRPr b="0" lang="en-US" sz="4400" spc="-1" strike="noStrike">
              <a:solidFill>
                <a:srgbClr val="996600"/>
              </a:solidFill>
              <a:latin typeface="Arial"/>
            </a:endParaRPr>
          </a:p>
        </p:txBody>
      </p:sp>
      <p:sp>
        <p:nvSpPr>
          <p:cNvPr id="90"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ne School Distric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9,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fade"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Writing”?</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Functional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Poetic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ative/Persuasive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Writing-to-Learn Texts</a:t>
            </a:r>
            <a:endParaRPr b="0" lang="en-US" sz="28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e type of writing that would support learning in your conten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9" dur="2000"/>
                                        <p:tgtEl>
                                          <p:spTgt spid="108">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2" dur="2000"/>
                                        <p:tgtEl>
                                          <p:spTgt spid="108">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85" dur="2000"/>
                                        <p:tgtEl>
                                          <p:spTgt spid="108">
                                            <p:txEl>
                                              <p:pRg st="2" end="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88" dur="2000"/>
                                        <p:tgtEl>
                                          <p:spTgt spid="108">
                                            <p:txEl>
                                              <p:pRg st="3" end="3"/>
                                            </p:txEl>
                                          </p:spTgt>
                                        </p:tgtEl>
                                      </p:cBhvr>
                                    </p:animEffect>
                                  </p:childTnLst>
                                </p:cTn>
                              </p:par>
                              <p:par>
                                <p:cTn id="89" nodeType="withEffect" fill="hold" presetClass="entr" presetID="10">
                                  <p:stCondLst>
                                    <p:cond delay="0"/>
                                  </p:stCondLst>
                                  <p:childTnLst>
                                    <p:set>
                                      <p:cBhvr>
                                        <p:cTn id="9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91" dur="2000"/>
                                        <p:tgtEl>
                                          <p:spTgt spid="10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8">
                                            <p:txEl>
                                              <p:pRg st="5" end="5"/>
                                            </p:txEl>
                                          </p:spTgt>
                                        </p:tgtEl>
                                        <p:attrNameLst>
                                          <p:attrName>style.visibility</p:attrName>
                                        </p:attrNameLst>
                                      </p:cBhvr>
                                      <p:to>
                                        <p:strVal val="visible"/>
                                      </p:to>
                                    </p:set>
                                    <p:animEffect filter="fade" transition="in">
                                      <p:cBhvr additive="repl">
                                        <p:cTn id="96" dur="2000"/>
                                        <p:tgtEl>
                                          <p:spTgt spid="108">
                                            <p:txEl>
                                              <p:pRg st="5" end="5"/>
                                            </p:txEl>
                                          </p:spTgt>
                                        </p:tgtEl>
                                      </p:cBhvr>
                                    </p:animEffect>
                                  </p:childTnLst>
                                </p:cTn>
                              </p:par>
                              <p:par>
                                <p:cTn id="97" nodeType="withEffect" fill="hold" presetClass="entr" presetID="10">
                                  <p:stCondLst>
                                    <p:cond delay="0"/>
                                  </p:stCondLst>
                                  <p:childTnLst>
                                    <p:set>
                                      <p:cBhvr>
                                        <p:cTn id="98" dur="1" fill="hold">
                                          <p:stCondLst>
                                            <p:cond delay="0"/>
                                          </p:stCondLst>
                                        </p:cTn>
                                        <p:tgtEl>
                                          <p:spTgt spid="108">
                                            <p:txEl>
                                              <p:pRg st="6" end="6"/>
                                            </p:txEl>
                                          </p:spTgt>
                                        </p:tgtEl>
                                        <p:attrNameLst>
                                          <p:attrName>style.visibility</p:attrName>
                                        </p:attrNameLst>
                                      </p:cBhvr>
                                      <p:to>
                                        <p:strVal val="visible"/>
                                      </p:to>
                                    </p:set>
                                    <p:animEffect filter="fade" transition="in">
                                      <p:cBhvr additive="repl">
                                        <p:cTn id="99" dur="20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Informative/Functional Texts</a:t>
            </a:r>
            <a:endParaRPr b="0" lang="en-US" sz="4400" spc="-1" strike="noStrike">
              <a:solidFill>
                <a:srgbClr val="996600"/>
              </a:solidFill>
              <a:latin typeface="Arial"/>
            </a:endParaRPr>
          </a:p>
        </p:txBody>
      </p:sp>
      <p:sp>
        <p:nvSpPr>
          <p:cNvPr id="11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convey information or to explain ideas, facts, or proc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hypertufa-cover.jpg"/>
          <p:cNvPicPr/>
          <p:nvPr/>
        </p:nvPicPr>
        <p:blipFill>
          <a:blip r:embed="rId1"/>
          <a:stretch/>
        </p:blipFill>
        <p:spPr>
          <a:xfrm>
            <a:off x="6781680" y="4343400"/>
            <a:ext cx="1843200" cy="2266920"/>
          </a:xfrm>
          <a:prstGeom prst="rect">
            <a:avLst/>
          </a:prstGeom>
          <a:ln w="0">
            <a:noFill/>
          </a:ln>
        </p:spPr>
      </p:pic>
      <p:pic>
        <p:nvPicPr>
          <p:cNvPr id="112" name="Picture 6" descr="brochure03.jpg"/>
          <p:cNvPicPr/>
          <p:nvPr/>
        </p:nvPicPr>
        <p:blipFill>
          <a:blip r:embed="rId2"/>
          <a:stretch/>
        </p:blipFill>
        <p:spPr>
          <a:xfrm>
            <a:off x="4648320" y="2895480"/>
            <a:ext cx="2387520" cy="1791000"/>
          </a:xfrm>
          <a:prstGeom prst="rect">
            <a:avLst/>
          </a:prstGeom>
          <a:ln w="0">
            <a:noFill/>
          </a:ln>
        </p:spPr>
      </p:pic>
      <p:pic>
        <p:nvPicPr>
          <p:cNvPr id="113" name="Picture 7" descr="FusionChart.png"/>
          <p:cNvPicPr/>
          <p:nvPr/>
        </p:nvPicPr>
        <p:blipFill>
          <a:blip r:embed="rId3"/>
          <a:stretch/>
        </p:blipFill>
        <p:spPr>
          <a:xfrm>
            <a:off x="1905120" y="4495680"/>
            <a:ext cx="3403440" cy="18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ry/Poetic Texts</a:t>
            </a:r>
            <a:endParaRPr b="0" lang="en-US" sz="4400" spc="-1" strike="noStrike">
              <a:solidFill>
                <a:srgbClr val="996600"/>
              </a:solidFill>
              <a:latin typeface="Arial"/>
            </a:endParaRPr>
          </a:p>
        </p:txBody>
      </p:sp>
      <p:pic>
        <p:nvPicPr>
          <p:cNvPr id="115" name="Content Placeholder 8" descr="journal.jpg"/>
          <p:cNvPicPr/>
          <p:nvPr/>
        </p:nvPicPr>
        <p:blipFill>
          <a:blip r:embed="rId1"/>
          <a:stretch/>
        </p:blipFill>
        <p:spPr>
          <a:xfrm>
            <a:off x="1447920" y="1371600"/>
            <a:ext cx="6253200" cy="4835520"/>
          </a:xfrm>
          <a:prstGeom prst="rect">
            <a:avLst/>
          </a:prstGeom>
          <a:ln w="0">
            <a:noFill/>
          </a:ln>
        </p:spPr>
      </p:pic>
      <p:pic>
        <p:nvPicPr>
          <p:cNvPr id="116" name="Picture 5" descr="g-pig-love.jpg"/>
          <p:cNvPicPr/>
          <p:nvPr/>
        </p:nvPicPr>
        <p:blipFill>
          <a:blip r:embed="rId2"/>
          <a:stretch/>
        </p:blipFill>
        <p:spPr>
          <a:xfrm>
            <a:off x="5638680" y="3505320"/>
            <a:ext cx="2873520" cy="1957320"/>
          </a:xfrm>
          <a:prstGeom prst="rect">
            <a:avLst/>
          </a:prstGeom>
          <a:ln w="0">
            <a:noFill/>
          </a:ln>
        </p:spPr>
      </p:pic>
      <p:pic>
        <p:nvPicPr>
          <p:cNvPr id="117" name="Picture 6" descr="lyrics-1.jpg"/>
          <p:cNvPicPr/>
          <p:nvPr/>
        </p:nvPicPr>
        <p:blipFill>
          <a:blip r:embed="rId3"/>
          <a:stretch/>
        </p:blipFill>
        <p:spPr>
          <a:xfrm>
            <a:off x="2209680" y="5562720"/>
            <a:ext cx="324828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Argumentative/Persuasive Texts</a:t>
            </a:r>
            <a:endParaRPr b="0" lang="en-US" sz="3800" spc="-1" strike="noStrike">
              <a:solidFill>
                <a:srgbClr val="996600"/>
              </a:solidFill>
              <a:latin typeface="Arial"/>
            </a:endParaRPr>
          </a:p>
        </p:txBody>
      </p:sp>
      <p:pic>
        <p:nvPicPr>
          <p:cNvPr id="119" name="Content Placeholder 6" descr="advertisement_poster_33.jpg"/>
          <p:cNvPicPr/>
          <p:nvPr/>
        </p:nvPicPr>
        <p:blipFill>
          <a:blip r:embed="rId1"/>
          <a:stretch/>
        </p:blipFill>
        <p:spPr>
          <a:xfrm>
            <a:off x="1676520" y="2971800"/>
            <a:ext cx="3789360" cy="2371680"/>
          </a:xfrm>
          <a:prstGeom prst="rect">
            <a:avLst/>
          </a:prstGeom>
          <a:ln w="0">
            <a:noFill/>
          </a:ln>
        </p:spPr>
      </p:pic>
      <p:pic>
        <p:nvPicPr>
          <p:cNvPr id="120" name="Picture 7" descr="petition.jpg"/>
          <p:cNvPicPr/>
          <p:nvPr/>
        </p:nvPicPr>
        <p:blipFill>
          <a:blip r:embed="rId2"/>
          <a:stretch/>
        </p:blipFill>
        <p:spPr>
          <a:xfrm>
            <a:off x="5791320" y="1600200"/>
            <a:ext cx="2971800" cy="2489040"/>
          </a:xfrm>
          <a:prstGeom prst="rect">
            <a:avLst/>
          </a:prstGeom>
          <a:ln w="0">
            <a:noFill/>
          </a:ln>
        </p:spPr>
      </p:pic>
      <p:pic>
        <p:nvPicPr>
          <p:cNvPr id="121" name="Picture 8" descr="position.jpg"/>
          <p:cNvPicPr/>
          <p:nvPr/>
        </p:nvPicPr>
        <p:blipFill>
          <a:blip r:embed="rId3"/>
          <a:stretch/>
        </p:blipFill>
        <p:spPr>
          <a:xfrm>
            <a:off x="5105520" y="3962520"/>
            <a:ext cx="2109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Expressive/Writing-to-Learn</a:t>
            </a:r>
            <a:endParaRPr b="0" lang="en-US" sz="4400" spc="-1" strike="noStrike">
              <a:solidFill>
                <a:srgbClr val="996600"/>
              </a:solidFill>
              <a:latin typeface="Arial"/>
            </a:endParaRPr>
          </a:p>
        </p:txBody>
      </p:sp>
      <p:pic>
        <p:nvPicPr>
          <p:cNvPr id="123" name="Content Placeholder 9" descr="letters.jpg"/>
          <p:cNvPicPr/>
          <p:nvPr/>
        </p:nvPicPr>
        <p:blipFill>
          <a:blip r:embed="rId1"/>
          <a:stretch/>
        </p:blipFill>
        <p:spPr>
          <a:xfrm>
            <a:off x="5715000" y="2362320"/>
            <a:ext cx="3143160" cy="3504960"/>
          </a:xfrm>
          <a:prstGeom prst="rect">
            <a:avLst/>
          </a:prstGeom>
          <a:ln w="0">
            <a:noFill/>
          </a:ln>
        </p:spPr>
      </p:pic>
      <p:pic>
        <p:nvPicPr>
          <p:cNvPr id="124" name="Picture 6" descr="cause-effect-diagrams.jpg"/>
          <p:cNvPicPr/>
          <p:nvPr/>
        </p:nvPicPr>
        <p:blipFill>
          <a:blip r:embed="rId2"/>
          <a:stretch/>
        </p:blipFill>
        <p:spPr>
          <a:xfrm>
            <a:off x="2057400" y="4191120"/>
            <a:ext cx="3200400" cy="2427120"/>
          </a:xfrm>
          <a:prstGeom prst="rect">
            <a:avLst/>
          </a:prstGeom>
          <a:ln w="0">
            <a:noFill/>
          </a:ln>
        </p:spPr>
      </p:pic>
      <p:pic>
        <p:nvPicPr>
          <p:cNvPr id="125" name="Picture 7" descr="learninglog.bmp"/>
          <p:cNvPicPr/>
          <p:nvPr/>
        </p:nvPicPr>
        <p:blipFill>
          <a:blip r:embed="rId3"/>
          <a:stretch/>
        </p:blipFill>
        <p:spPr>
          <a:xfrm>
            <a:off x="1676520" y="1447920"/>
            <a:ext cx="4114800" cy="27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27"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this the English teacher’s responsibilit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a content teacher want to embed more writing in their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06" dur="2000"/>
                                        <p:tgtEl>
                                          <p:spTgt spid="12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1"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Developmental Stages of Writing</a:t>
            </a:r>
            <a:endParaRPr b="0" lang="en-US" sz="3800" spc="-1" strike="noStrike">
              <a:solidFill>
                <a:srgbClr val="996600"/>
              </a:solidFill>
              <a:latin typeface="Arial"/>
            </a:endParaRPr>
          </a:p>
        </p:txBody>
      </p:sp>
      <p:sp>
        <p:nvSpPr>
          <p:cNvPr id="129" name="PlaceHolder 2"/>
          <p:cNvSpPr>
            <a:spLocks noGrp="1"/>
          </p:cNvSpPr>
          <p:nvPr>
            <p:ph/>
          </p:nvPr>
        </p:nvSpPr>
        <p:spPr>
          <a:xfrm>
            <a:off x="1600200" y="1904760"/>
            <a:ext cx="7238880" cy="472428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K-12 Language Arts Core scope and sequence for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riting skills are students learning and practicing in the grade you teach?</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of writing are recommended?</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the skills taught in earlier grades prepared students to be ready to lear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8" dur="2000"/>
                                        <p:tgtEl>
                                          <p:spTgt spid="12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3" dur="2000"/>
                                        <p:tgtEl>
                                          <p:spTgt spid="12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8" dur="2000"/>
                                        <p:tgtEl>
                                          <p:spTgt spid="129">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1"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various core document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it doesn’t necessarily need to be the content or grade level you teach--you choos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ither alone or with a partner. Highlight or underline the ILOs or standards that require writing or that could be supported with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3"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lavender content writing ideas. Brainstorm types of writing activities students might do to learn this standard or ILO.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your ideas. We will share them later.</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3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0" dur="2000"/>
                                        <p:tgtEl>
                                          <p:spTgt spid="13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45" dur="2000"/>
                                        <p:tgtEl>
                                          <p:spTgt spid="13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50"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 2-Column No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column notes form, take 2 minutes and reflect on the strengths and weaknesses you see in your students’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ottom section, list the types of writing (formal and informal) that currently happen in your classroom.</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sharing your reponses with your tabl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NOWBALL</a:t>
            </a:r>
            <a:endParaRPr b="0" lang="en-US" sz="4400" spc="-1" strike="noStrike">
              <a:solidFill>
                <a:srgbClr val="996600"/>
              </a:solidFill>
              <a:latin typeface="Arial"/>
            </a:endParaRPr>
          </a:p>
        </p:txBody>
      </p:sp>
      <p:sp>
        <p:nvSpPr>
          <p:cNvPr id="135" name="PlaceHolder 2"/>
          <p:cNvSpPr>
            <a:spLocks noGrp="1"/>
          </p:cNvSpPr>
          <p:nvPr>
            <p:ph/>
          </p:nvPr>
        </p:nvSpPr>
        <p:spPr>
          <a:xfrm>
            <a:off x="1600200" y="1904760"/>
            <a:ext cx="7238880" cy="4647960"/>
          </a:xfrm>
          <a:prstGeom prst="rect">
            <a:avLst/>
          </a:prstGeom>
          <a:noFill/>
          <a:ln w="0">
            <a:noFill/>
          </a:ln>
        </p:spPr>
        <p:txBody>
          <a:bodyPr anchor="t">
            <a:normAutofit fontScale="98000"/>
          </a:bodyPr>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blank piece of paper, write your name, what you teach, and a writing skill that you will be integrating in your classroom.</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own creativity or some of the ideas from Bill Strong, describe two writing activities students could do to build content knowledge </a:t>
            </a:r>
            <a:r>
              <a:rPr b="0" i="1" lang="en-US" sz="2800" spc="-1" strike="noStrike">
                <a:solidFill>
                  <a:srgbClr val="000000"/>
                </a:solidFill>
                <a:latin typeface="Arial"/>
              </a:rPr>
              <a:t>and</a:t>
            </a:r>
            <a:r>
              <a:rPr b="0" lang="en-US" sz="2800" spc="-1" strike="noStrike">
                <a:solidFill>
                  <a:srgbClr val="000000"/>
                </a:solidFill>
                <a:latin typeface="Arial"/>
              </a:rPr>
              <a:t> increase writing skills. </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Make it fun and educational!</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mple and toss to someone at a nearby table.</a:t>
            </a:r>
            <a:endParaRPr b="0" lang="en-US" sz="2800" spc="-1" strike="noStrike">
              <a:solidFill>
                <a:srgbClr val="000000"/>
              </a:solidFill>
              <a:latin typeface="Arial"/>
            </a:endParaRPr>
          </a:p>
        </p:txBody>
      </p:sp>
      <p:pic>
        <p:nvPicPr>
          <p:cNvPr id="136" name="" descr=""/>
          <p:cNvPicPr/>
          <p:nvPr/>
        </p:nvPicPr>
        <p:blipFill>
          <a:blip r:embed="rId2"/>
          <a:stretch/>
        </p:blipFill>
        <p:spPr>
          <a:xfrm>
            <a:off x="4648320" y="152280"/>
            <a:ext cx="2514600" cy="16732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2000"/>
                                        <p:tgtEl>
                                          <p:spTgt spid="13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2" dur="2000"/>
                                        <p:tgtEl>
                                          <p:spTgt spid="13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67" dur="2000"/>
                                        <p:tgtEl>
                                          <p:spTgt spid="13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2" dur="2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harting Responses</a:t>
            </a:r>
            <a:endParaRPr b="0" lang="en-US" sz="4400" spc="-1" strike="noStrike">
              <a:solidFill>
                <a:srgbClr val="996600"/>
              </a:solidFill>
              <a:latin typeface="Arial"/>
            </a:endParaRPr>
          </a:p>
        </p:txBody>
      </p:sp>
      <p:sp>
        <p:nvSpPr>
          <p:cNvPr id="94"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sponses with those at your table.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your ideas on the chart paper.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y and star the most common strengths, weaknesses, and writing task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have 5 minutes to complete this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haring Results</a:t>
            </a:r>
            <a:endParaRPr b="0" lang="en-US" sz="4400" spc="-1" strike="noStrike">
              <a:solidFill>
                <a:srgbClr val="996600"/>
              </a:solidFill>
              <a:latin typeface="Arial"/>
            </a:endParaRPr>
          </a:p>
        </p:txBody>
      </p:sp>
      <p:sp>
        <p:nvSpPr>
          <p:cNvPr id="96"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share their find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yoursel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group’s find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ilarities/differ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have 3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9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day, more and more educators have come to understand that writing is central to academic succes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Because Writing Matters </a:t>
            </a:r>
            <a:r>
              <a:rPr b="0" lang="en-US" sz="2000" spc="-1" strike="noStrike">
                <a:solidFill>
                  <a:srgbClr val="000000"/>
                </a:solidFill>
                <a:latin typeface="Arial"/>
              </a:rPr>
              <a:t>pg.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fade" transition="in">
                                      <p:cBhvr additive="repl">
                                        <p:cTn id="19" dur="20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fade" transition="in">
                                      <p:cBhvr additive="repl">
                                        <p:cTn id="24" dur="2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writing, and discussion--these three--are the foundation for a well-equipped mind; the key to equity, access, and economic opportunity. They will mightily promote achievement gains even as they help to make school a “thoughtful place” --a more relevant, interesting, and therefore educational place for our children to spend their precious school ye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esults Now</a:t>
            </a:r>
            <a:r>
              <a:rPr b="0" lang="en-US" sz="2000" spc="-1" strike="noStrike">
                <a:solidFill>
                  <a:srgbClr val="000000"/>
                </a:solidFill>
                <a:latin typeface="Arial"/>
              </a:rPr>
              <a:t> Schmoker pg. 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1" dur="2000"/>
                                        <p:tgtEl>
                                          <p:spTgt spid="10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6" dur="2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riting today is not a frill for the few, but an essential skill for the many.”</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1600" spc="-1" strike="noStrike">
                <a:solidFill>
                  <a:srgbClr val="000000"/>
                </a:solidFill>
                <a:latin typeface="Arial"/>
              </a:rPr>
              <a:t>--National Commission on Writing in America’s Schools and Colle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3" dur="2000"/>
                                        <p:tgtEl>
                                          <p:spTgt spid="102">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8"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ain purpose of writing in school is to tell the teacher what the teacher already knows, not to explore a topic or idea.”</a:t>
            </a:r>
            <a:br>
              <a:rPr sz="3200"/>
            </a:b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cond main purpose of school writing is to provide diversionary busywork (or “time filler”) so that the class is occup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5" dur="20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0"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6"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third main purpose of school writing is to serve as a management threat to students or as actual punishment for misbehavior.”</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about required length is essential in school writing in order for you to pad appropriately or to minimize the possibility of doing extra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7" dur="2000"/>
                                        <p:tgtEl>
                                          <p:spTgt spid="10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72"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01:28:23Z</dcterms:created>
  <dc:creator>Rosanne Markham</dc:creator>
  <dc:description/>
  <dc:language>en-US</dc:language>
  <cp:lastModifiedBy>Rosanne Markham</cp:lastModifiedBy>
  <cp:lastPrinted>2007-08-20T04:30:59Z</cp:lastPrinted>
  <dcterms:modified xsi:type="dcterms:W3CDTF">2010-05-19T04:03:52Z</dcterms:modified>
  <cp:revision>29</cp:revision>
  <dc:subject/>
  <dc:title>Writing Across the Curriculum</dc:title>
</cp:coreProperties>
</file>